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3EE-7EFB-47A4-92E6-1E3C2256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7BD-0133-4736-9D4B-7979E585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057-B51B-4995-93A0-A5FB908F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B87-12E9-451C-986F-88537BC0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A1D-C309-4162-8598-EC2667A4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62F-07BF-4517-A3AA-8E8404F2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62A-7E0D-47C8-8276-4C546CA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D44-B9BA-48AB-A743-0F002B67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677-3CEF-4929-93EC-4AE1E58D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1E5-F89E-4869-A308-C2AD3BB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807-D4A5-4BDC-BF02-20E138E5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F57-9764-4E6B-BFEC-35FACA36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2380E2-A722-4F46-97A7-A4CD97A89F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0PM10vOtd6o" TargetMode="External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re combinat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e de optimizare combinat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ţiu uriaş de cău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, atunci spaţiul de soluţ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zabile pentru Problema alocării lini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100! (aprox. 9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6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l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omii din Univers: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3581280"/>
                <a:ext cx="2570400" cy="299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e de optimizare combinat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ile (cu câteva excepţ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s-au găsit algoritmi de complexitate polinomială care să le rez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a problemelor pentru care există algoritmi polinomiali de rezolvare se numeşte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obleme Polinomi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ngaria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un algoritm polinomial pentru Problema alocării liniare; deci Problema alocării liniare este în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ă algoritmi care nu au complexitate polinomial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ţa brută pentru Problema alocării liniare este O(n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şti algoritmi se numes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ţia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371600" y="5486400"/>
                <a:ext cx="2644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e de optimizare combinat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ile (cu câteva excepţii)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ţi algoritmi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oscuţ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ntru Problema comis-voiajorului sunt exponenţiali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s-a demonst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ă nu există algoritmi polinomiali care s-o rez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comis-voiajorului este în clasa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eme Nedeterminist – Polinomi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e de rezolv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tru P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ţa brut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todă exact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area tuturor soluţilor fezabile (din    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e “prin eliminare” (cutting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tode exac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limină din       zonele pentru c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 demonstreaz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ă nu conţin soluţi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e aproxim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găseşte o soluţie fezabilă pentru c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 demonstreaz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ă funcţia obiectiv este apropiată de valoarea optimă (calitatea soluţiei este garantat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e euris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aută o soluţie fezabilă obţinută rapid (nici găsirea soluţiei şi nici calitatea sa nu sunt garant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 concu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reşterea vitezei de calcu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004080" y="1935000"/>
                <a:ext cx="473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81200" y="2779560"/>
                <a:ext cx="4669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orţa brut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ăutare exhaustiv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recomandată dacă       nu este foarte m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ă un graf planar complet c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duri (puncte de interes + distanţe între e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ă se determine distanţa maximă parcursă de un turist care are 3 bilete de transport (între orice 2 puncte se validează un bil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886200" y="1981080"/>
                <a:ext cx="482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Metode “prin elimina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utting meth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onstruieşte un arbore. Nodurile corespund unor submulţimi ale lui      . Rădăcina corespunde lui     . Fiii fiecărui nod se obţin printr-o metodă de partiţionar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 mulţimii corespunzătoare nodului respectiv. Când submulţimea corespunzătoare devine vidă, ramura se înch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: Backtracking; Branch and b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81280" y="236232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543800" y="236232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Metode “prin elimina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alocării lin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    2   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  4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8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ţine toate combinaţiile posibi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Back la slid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62120" y="4495680"/>
                <a:ext cx="80769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3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3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,2,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85800" y="5181480"/>
                <a:ext cx="3505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2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1. Back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urgere în adâncime. Pentru nivelul 1 se partiţioneaz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nivelul 2 se închid 3 ramuri (care? de ce?)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3247920"/>
          <a:ext cx="853596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47920"/>
                    <a:ext cx="853596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33520" y="2068560"/>
                <a:ext cx="8001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3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1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2. Branch and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 plus, fiecare nod are asociată o limită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 funcţiei obiectiv pe submulţimea corespunzătoare nodului. Când limita arată că pe ramura respectivă nu se poate găsi o soluţie, ramura se închide şi deci submulţimea corespunzătoare este eliminat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tracking / Branch and b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 (bound) este de aşteptat să închidă mai curând ramuri, deci Branch and bound să fie mai rap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există reţetă pentru găsirea limitei. Dacă limita este slab aleasă, atunci închiderea este întârziat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2. Branch and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este de minimizare. Se caută o limită inferioară (lower bound). Se ale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wer_bound(no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a elementelor minime de pe fiecare rând nealo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trebuie să f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zabil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Back la slid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9480" y="3808440"/>
                <a:ext cx="8534520" cy="29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2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2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3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un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3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3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3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un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un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un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7" name=""/>
          <p:cNvGraphicFramePr/>
          <p:nvPr/>
        </p:nvGraphicFramePr>
        <p:xfrm>
          <a:off x="5791320" y="5372280"/>
          <a:ext cx="231444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372280"/>
                    <a:ext cx="23144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problemă de optimiz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) es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cţ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iect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p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ă o relaţie totală de ordine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criteriul de optimiza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mulţimea de constrâng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i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066680" y="2133720"/>
                <a:ext cx="2568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op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onst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43000" y="2971800"/>
                <a:ext cx="1306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57200" y="5029200"/>
                <a:ext cx="5214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,max,</m:t>
                        </m:r>
                        <m:r>
                          <m:rPr>
                            <m:lit/>
                            <m:nor/>
                          </m:rPr>
                          <m:t xml:space="preserve">const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:</m:t>
                        </m:r>
                        <m:r>
                          <m:t xml:space="preserve">R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tr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529320" y="4800600"/>
                <a:ext cx="261468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7</m:t>
                                  </m:r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sup>
                                  </m:sSup>
                                  <m:r>
                                    <m:t xml:space="preserve">≤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7</m:t>
                                  </m:r>
                                  <m: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2. Branch and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urgere pe lăţime. Pentru nivelul 1 se partiţionează la 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ontinuă cu nodul cel mai promiţător de pe nivel (al doile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3417840"/>
          <a:ext cx="76186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417840"/>
                    <a:ext cx="76186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" y="2057400"/>
                <a:ext cx="84088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3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1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6320" y="2901960"/>
                <a:ext cx="8991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13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3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înch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 mai promiţător nod (primul) se expandează. Se închid primii doi fii. f((213))=9. Se compară această valoare cu toate limitele nodurilor neînchise. Toate valorile rămase sunt mai mari, deci toate se închi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3422520"/>
          <a:ext cx="7605720" cy="34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2520"/>
                    <a:ext cx="760572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33520" y="228600"/>
            <a:ext cx="82278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2. Branch and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90720" y="1143000"/>
                <a:ext cx="40384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un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un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Metode “prin eliminare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trac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cesitat 10 expandă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optimizează, ci generează to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ţiile fezab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 and b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cesitat 3 expandă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ază, deci generează do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ţi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ele sunt metode exac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citeseerx.ist.psu.edu/viewdoc/download;jsessionid=8F21042F327F09D82513A121EF269861?doi=10.1.1.5.7475&amp;rep=rep1&amp;type=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BUGIhEec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s.princeton.edu/courses/archive/spr05/cos423/lectures/07assignment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utah.edu.jo/userhomepages/CS252/branchandbound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at.gsia.cmu.edu/orclass/integer/node13.html#SECTION000420000000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ntelligence.worldofcomputing.net/ai-search/brute-force-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s://www.youtube.com/watch?v=0PM10vOtd6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ţiile fezab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 unei probleme de optimiz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ţi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ile op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i probleme de optimiz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914400" y="4114800"/>
                <a:ext cx="4268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55520" y="2286000"/>
                <a:ext cx="40197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idea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problemă de optimiz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or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C) este o problemă de optimizare un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produsul cartezian al unor mulţimi (soluţia problemei se exprimă prin combinaţi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obicei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puterea unei mulţi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85800" y="4494240"/>
                <a:ext cx="809136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,max,</m:t>
                        </m:r>
                        <m:r>
                          <m:rPr>
                            <m:lit/>
                            <m:nor/>
                          </m:rPr>
                          <m:t xml:space="preserve">const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→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tr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ţiile fezab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 unei PO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ţi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ile op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i PO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ţiile parţi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 unei PO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.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. 2. Unii algoritmi generează spaţii mai largi de soluţii, pe care apoi le triază (slide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00200" y="5181480"/>
                <a:ext cx="1165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⊂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38080" y="3200400"/>
                <a:ext cx="6120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2120" y="1981080"/>
                <a:ext cx="6003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idea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4419720"/>
                <a:ext cx="4368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e de optimizare combinat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ele de optimiz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or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nt prezente în viaţa de zi cu zi şi sunt studiate intens de cercetăto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enii de inte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tematică, Cercetare operaţională, Algoritmică, Inteligenţa Artificială, Complexitatea calculu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e de P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e de alocare (Problema alocării liniare, Problema alocării pătratice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e de fluxuri în grafuri (Problema arborelui minim de acoperire, Problema fluxului maxi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e de transport (Problema comis-voiajorului, Problema rutării vehiculel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e de optimizare combinat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isticile PO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şor de formaliz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ţiu uriaş de cău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ile (cu câteva excepţii - cele mai cunoscute excepţii: Problema arborelui minim de acoperire; Problema alocării linia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e de optimizare combinat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are simpl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 alocării lini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ă o matrice C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valori pozit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ă se aleag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ori aflate pe linii ş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ane diferite şi care au suma minim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 comis-voiajorul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un graf cu ponderi pozitive G(V,E,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ă se găsească un circuit hamilton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ost min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6560" y="1066680"/>
                <a:ext cx="2287440" cy="26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858000" y="3855960"/>
                <a:ext cx="2163600" cy="28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∀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⊂</m:t>
                                </m:r>
                                <m:r>
                                  <m:t xml:space="preserve">V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e de optimizare combinat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ţiu uriaş de cău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, atunci spaţiul de soluţ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zabile pentru Problema alocării lini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__________ el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581280"/>
                <a:ext cx="2570400" cy="299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5:41Z</dcterms:created>
  <dc:creator>adela</dc:creator>
  <dc:description/>
  <dc:language>en-US</dc:language>
  <cp:lastModifiedBy>cerasela</cp:lastModifiedBy>
  <dcterms:modified xsi:type="dcterms:W3CDTF">2018-03-24T19:28:10Z</dcterms:modified>
  <cp:revision>332</cp:revision>
  <dc:subject/>
  <dc:title>Tabele Hash</dc:title>
</cp:coreProperties>
</file>